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gif" ContentType="image/gif"/>
  <Override PartName="/ppt/media/image17.wmf" ContentType="image/x-wmf"/>
  <Override PartName="/ppt/media/camera.wav" ContentType="audio/x-wav"/>
  <Override PartName="/ppt/media/breeze.wav" ContentType="audio/x-wav"/>
  <Override PartName="/ppt/media/applause.wav" ContentType="audio/x-wav"/>
  <Override PartName="/ppt/media/image5.wmf" ContentType="image/x-wmf"/>
  <Override PartName="/ppt/media/laser.wav" ContentType="audio/x-wav"/>
  <Override PartName="/ppt/media/image9.gif" ContentType="image/gif"/>
  <Override PartName="/ppt/media/image22.wmf" ContentType="image/x-wmf"/>
  <Override PartName="/ppt/media/image1.wmf" ContentType="image/x-wmf"/>
  <Override PartName="/ppt/media/bomb.wav" ContentType="audio/x-wav"/>
  <Override PartName="/ppt/media/image26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23.wmf" ContentType="image/x-wmf"/>
  <Override PartName="/ppt/media/image25.wmf" ContentType="image/x-wmf"/>
  <Override PartName="/ppt/media/image2.wmf" ContentType="image/x-wmf"/>
  <Override PartName="/ppt/media/image8.gif" ContentType="image/gif"/>
  <Override PartName="/ppt/media/image4.wmf" ContentType="image/x-wmf"/>
  <Override PartName="/ppt/media/image24.gif" ContentType="image/gif"/>
  <Override PartName="/ppt/media/image20.wmf" ContentType="image/x-wmf"/>
  <Override PartName="/ppt/media/image3.wmf" ContentType="image/x-wmf"/>
  <Override PartName="/ppt/media/image7.gif" ContentType="image/gif"/>
  <Override PartName="/ppt/media/image10.gif" ContentType="image/gif"/>
  <Override PartName="/ppt/media/image18.wmf" ContentType="image/x-wmf"/>
  <Override PartName="/ppt/media/hammer.wav" ContentType="audio/x-wav"/>
  <Override PartName="/ppt/media/image11.png" ContentType="image/png"/>
  <Override PartName="/ppt/media/image12.png" ContentType="image/png"/>
  <Override PartName="/ppt/media/image13.wmf" ContentType="image/x-wmf"/>
  <Override PartName="/ppt/media/image15.gif" ContentType="image/gif"/>
  <Override PartName="/ppt/media/voltage.wav" ContentType="audio/x-wav"/>
  <Override PartName="/ppt/media/image1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DB6-51B8-4FB7-B075-002EFC1C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50D-44A5-4936-8D34-E9F19E5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068-F080-433F-A435-383E28E4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A2F-6D84-438F-A302-1B96620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754-E682-40A0-836B-BA485EA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F8D-6CD1-463F-85B3-E092EA32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084-5EF5-4033-A8B9-B002EC1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B0C-ABBC-4A41-AB6F-8E8A9374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4CB-FB28-458E-A2FA-2B9B1865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D5E-41D5-4008-92F0-F3E6C52A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8D4-3660-4426-A3BA-2CA7DBC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B7C-59C3-4243-8806-37C4FBB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70A-3108-4AC5-8F4A-2A58A9C1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audio" Target="file:///tmp/home/.config/libreoffice/4/user/gallery/hammer.wav" TargetMode="External"/><Relationship Id="rId5" Type="http://schemas.microsoft.com/office/2007/relationships/media" Target="file:///tmp/home/.config/libreoffice/4/user/gallery/hammer.wav" TargetMode="External"/><Relationship Id="rId6" Type="http://schemas.openxmlformats.org/officeDocument/2006/relationships/image" Target="../media/image12.png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NK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building in a camp where a group of people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bunk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b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 Break: bunk-ho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ho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153504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48320" y="4114800"/>
          <a:ext cx="38098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11480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10080" y="2209680"/>
            <a:ext cx="3170520" cy="2149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5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993366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g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sweet of pleasant o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ar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o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frag-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f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32560" y="2092320"/>
            <a:ext cx="1841400" cy="175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08560" y="4114800"/>
            <a:ext cx="24876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French word that means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bon-j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182088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1816200" cy="82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528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 Cru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French word for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good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by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1819080" cy="1479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4120" y="4800600"/>
            <a:ext cx="181908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ords (of woo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efinition: A measure for a stack of cut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ynonyms: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ntonyms: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yllable Brea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Base Word: 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21400" y="1981080"/>
            <a:ext cx="186372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65600" y="4205160"/>
            <a:ext cx="1973520" cy="1798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 great size, or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little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im-men-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 stretch of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 Break: land- 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berj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A person who chops down trees and mauls the logs to a saw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lo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: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 Break: lumber-j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l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2514600" cy="194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29200" y="227664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7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9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09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117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751746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owsh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: A rounded wooden frame with leather strip stretched a crosstie attached to the sh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onym: s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onyms: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llable: snow-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 Word: snow and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lection: 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1714680" cy="181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238880" y="2133720"/>
            <a:ext cx="155916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1657440" cy="1400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  <p:sndAc>
      <p:stSnd>
        <p:snd r:embed="rId4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rees that can be used as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wood, logs, and l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tim-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ti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39076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50000">
              <a:srgbClr val="5e1746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ods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A person who works or lives in the fo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: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onym: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llable: woods-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Word: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94360" y="990720"/>
            <a:ext cx="3149640" cy="3433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w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look ann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: g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: happy and 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glow- 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 or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193680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</cp:lastModifiedBy>
  <dcterms:modified xsi:type="dcterms:W3CDTF">2009-02-02T17:26:46Z</dcterms:modified>
  <cp:revision>17</cp:revision>
  <dc:subject/>
  <dc:title>PowerPoint Presentation</dc:title>
</cp:coreProperties>
</file>